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5508-0AE8-40A5-AD8C-A9BD36861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FFF0-7789-4DAC-BB82-5E0FA650D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9A96-348A-4BF7-B7F3-735193EEB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C53A-291B-4BED-865A-554DC0F1A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E9A7-CDD2-4C1D-A9B3-5869F17A5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47C8-2F4B-4DF4-9A3B-37276366B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6DAA-49E2-4327-81AC-B313C8937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14D3-98DC-40BD-8AA4-CC20C9497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5862-5AB9-4DAA-A2D5-475140A7C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F2BD-9D21-45BE-93BA-E3B8CC5D7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988A-2A1C-4514-98FC-FA1C6F8A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D1C7-2D61-419A-96F7-91AA3345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7A392-A652-4C8D-A2F1-B45EE5871F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ASIA DE VEST ŞI DE SUD-V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095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Geografie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clasa a VII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, Silviu Neguţ, Gabriela Aposto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2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87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423720" algn="just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eastă regiun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ografic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 se află în partea de vest a continentului, la contactul cu Europa şi Africa. Are, în cea mai mare parte, limite marine, cele terestre fiind prezente numai în est, unde se învecinează cu Asia de Sud, şi pe o mică porţiune în nord, unde se întinde lanţul muntos Caucaz, care constituie graniţa dintre Asia şi Europa. Deşi deţine numai o şeptime din suprafaţa Asiei şi mai puţin de o zecime din populaţia acesteia, Asia de Vest şi de Sud-Vest concentrează peste 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ime din ţările continentului.Totodată este regiunea din Asia cu cea mai mare varietate de populaţii: arabi, persani şi turci – care formează majoritatea, evrei, armeni, greci, azeri, georgieni ş.a. Armenii, evreii şi grecii sunt printre cele mai vechi popoare ale lumi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ia de Vest şi de Sud-Vest este cea mai bogată regiune din lume în petrol şi gaze natur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 dezvoltare economică, ţările de aici au niveluri difer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ansamblu, Asia de Vest şi de Sud–Vest este o regiune de platouri vechi, constând din: două peninsule, Arabia şi Asia Mică, ocupate de platouri înconjurate de munţi; Podişul Iranian, desfăşurat la est de Golful Persic; o câmpie joasă şi fertilă, Câmpia Mesopotamiei.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[…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âmpia Mesopotamiei este singura câmpie mai întinsă din Asia de Vest şi de Sud–Vest. Este foarte fertilă, datorită celor două fluvii care 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limitează: Tigru şi Eufrat. Fertilitatea ei a favorizat încă din vechime dezvoltarea unor mari civilizaţii: sumeriană, akkadiană, babilonian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2" descr="comp_i"/>
          <p:cNvPicPr/>
          <p:nvPr/>
        </p:nvPicPr>
        <p:blipFill>
          <a:blip r:embed="rId1"/>
          <a:stretch/>
        </p:blipFill>
        <p:spPr>
          <a:xfrm>
            <a:off x="5638680" y="1981080"/>
            <a:ext cx="2657520" cy="26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2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lasificarea ţărilor Asiei de Vest şi de Sud-Ves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rientul Apropi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urcia, capitala: Ank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ipru, capitala: Nico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ria, capitala: Damas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ban, capitala: Beir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srael, capitala: Ierusali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rdania, capitala: Amma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rientul Mijloci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rabia Saudită, capitala: Riyad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Yemen, capitala: Sa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’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man, capitala: Musc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miratele Arabe Unite, capitala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bu Dha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Qatar, capitala: Do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Bahrain, capitala: Manam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te ţăr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rmenia, capitala: Erev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eorgia, capitala: Tbili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zerbaijan,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pital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Bak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Elev</cp:lastModifiedBy>
  <dcterms:modified xsi:type="dcterms:W3CDTF">2012-06-18T11:32:52Z</dcterms:modified>
  <cp:revision>40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